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131050" cy="9417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EA4-C56D-44E5-A022-CB0BDA0E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D8E-62D6-444A-824B-84C19EAF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7C2-0FF7-4994-82E6-3EB01CA89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8444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428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8444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428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CF5-7B5B-4F39-B05F-BE8169E6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CA7-ECCB-414D-807E-6604662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DAC-17F2-4FFF-A2AE-9E74CCF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135-9320-4502-A832-45A51D50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D14-3D3E-4481-A6A6-8CE2CF7B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836280"/>
            <a:ext cx="606276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E24-5DF7-48D3-B57E-DFCD695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027-6C7D-4AE7-B5A6-767FA6B9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01F6-2E2B-4637-9216-A417249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2C3-CEE6-46E6-9A46-A7D59F17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3880" indent="-3538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6480" y="8582040"/>
            <a:ext cx="225900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1164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FA85336-0D81-4013-B8DC-F2834731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5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9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3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4"/>
          <p:cNvGraphicFramePr/>
          <p:nvPr/>
        </p:nvGraphicFramePr>
        <p:xfrm>
          <a:off x="914400" y="2057400"/>
          <a:ext cx="6392880" cy="170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20574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Line 2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11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2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3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5"/>
          <p:cNvGraphicFramePr/>
          <p:nvPr/>
        </p:nvGraphicFramePr>
        <p:xfrm>
          <a:off x="836640" y="2347920"/>
          <a:ext cx="5549760" cy="1317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2347920"/>
                    <a:ext cx="5549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7"/>
          <p:cNvSpPr/>
          <p:nvPr/>
        </p:nvSpPr>
        <p:spPr>
          <a:xfrm>
            <a:off x="1204920" y="349092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1"/>
          <p:cNvGraphicFramePr/>
          <p:nvPr/>
        </p:nvGraphicFramePr>
        <p:xfrm>
          <a:off x="976320" y="2043000"/>
          <a:ext cx="6392880" cy="17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6320" y="20430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5" descr="BD07377_[1]"/>
          <p:cNvPicPr/>
          <p:nvPr/>
        </p:nvPicPr>
        <p:blipFill>
          <a:blip r:embed="rId5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BD07377_[1]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BD07377_[1]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0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1890720" y="1738440"/>
            <a:ext cx="27766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57200" y="3110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1" descr="BD07377_[1]"/>
          <p:cNvPicPr/>
          <p:nvPr/>
        </p:nvPicPr>
        <p:blipFill>
          <a:blip r:embed="rId3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BD07377_[1]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BD07377_[1]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052640" y="3414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W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 rot="16200000">
            <a:off x="-371880" y="2629080"/>
            <a:ext cx="20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 of 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29"/>
          <p:cNvGraphicFramePr/>
          <p:nvPr/>
        </p:nvGraphicFramePr>
        <p:xfrm>
          <a:off x="976320" y="2271600"/>
          <a:ext cx="5514840" cy="130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6320" y="2271600"/>
                    <a:ext cx="55148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76160" y="4863960"/>
          <a:ext cx="5521320" cy="130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4863960"/>
                    <a:ext cx="552132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13:17Z</dcterms:created>
  <dc:creator>Preferred Customer</dc:creator>
  <dc:description/>
  <dc:language>en-US</dc:language>
  <cp:lastModifiedBy>Tootie Otto</cp:lastModifiedBy>
  <cp:lastPrinted>2003-04-02T17:53:09Z</cp:lastPrinted>
  <dcterms:modified xsi:type="dcterms:W3CDTF">2013-11-26T17:10:12Z</dcterms:modified>
  <cp:revision>10</cp:revision>
  <dc:subject/>
  <dc:title>No Slide Title</dc:title>
</cp:coreProperties>
</file>